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41.jpeg" ContentType="image/jpeg"/>
  <Override PartName="/ppt/media/image9.png" ContentType="image/png"/>
  <Override PartName="/ppt/media/image39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14.png" ContentType="image/png"/>
  <Override PartName="/ppt/media/image1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jpeg" ContentType="image/jpeg"/>
  <Override PartName="/ppt/media/image30.jpeg" ContentType="image/jpeg"/>
  <Override PartName="/ppt/media/image7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33F3-DB6A-4849-B884-BD90A2325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EC0F-B7B0-407B-8F1A-D0D388001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A30B-55A9-4C6C-9B01-C2D5A7F5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C700-1F0D-4FEB-A77C-5038CF9C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113-6489-4712-88F5-7C8F32853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BF9-EFBC-4DAC-A35C-6FF53CD2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D3D-6FC0-4D06-BA46-BBAF5A4E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BC38B-AD23-4CB7-A931-DD1E96BE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C3C22-0234-4C0B-9F29-48F687D8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5355-601F-4752-BF2D-EB5AA10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5CED3-1863-4DCD-B6F1-9F89558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B03D6-298E-415F-AA36-0055863E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A30E5-A953-494B-B0D8-E0040047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B95D7-9DC4-4E1F-9DD0-07E5282E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77710-54F3-4DA5-84BC-1E4B5CB2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7BFE5-08BD-4020-8FCD-396A4B32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C88F6-1265-4FDC-9A33-B296305E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E6C-3E8A-4914-B0D8-34B7B80F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86AFF-D53D-4413-86C3-0629B144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2672F-D2B2-4B24-8B92-2000E64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5D2B6-E973-4C0E-A1AD-EF25420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47458-3FB1-443D-B841-0FD74BD4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D84B2-2C3C-4E9E-B586-01344BFC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2FF8A-366F-4E71-A49D-886954F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73271-BEA5-4896-8D3D-02679BE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88AFD-1CF1-48FA-A4F9-3A0E55C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21565-011B-48F7-80A3-8A438D85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1F54B-EE63-4F82-A57D-747DC8AD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E03-AA1D-4063-A4A4-FEDEF7FD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57F20-A901-47B9-A705-3563004A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6EBAD-D11C-4A12-8F6B-0823D94F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81B87-6144-4E23-8C11-D5BE0BFB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8E1F7-992F-4E1E-A436-79F3C425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7EC99-1235-4F10-9CDA-0BEEE2C8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C2BE7-7C55-4445-975C-3B8B3475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645F9-A2BE-49B8-859A-C7D325FE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16A3B-F84C-4C0C-87D2-D5D009F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E4C25-F997-4ED3-BCAC-791A6B01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8F7FB-B21C-42F1-B93C-65F11DC4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510C-7189-4E7B-B3DA-EEEE0C72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53ABD-3CD8-4DA1-BB7F-CA2652F2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820B2-47BB-4D2D-92CB-334C241A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C1B32-F468-4BD3-8232-3E506DB7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57B42-54EF-445B-9121-E52FDADC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64DF1-2B71-481E-A10F-142D9C41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DB87-F12C-4FFB-9637-41B74660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3E574-C361-48D0-A433-E93FF168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35209-A9DC-4826-9288-CD032430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EDBFD-695D-4E01-915F-3405274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57CA8-EF01-491E-A85B-59C5200C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1F80-C5C9-4011-9226-16592D1E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4575B-09A5-4F22-9E52-28066A9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E15F8-84F7-46BA-A983-26C3D98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C26D5-EE28-40DB-9269-0C5EC22A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147C7-DA37-4CDD-91A4-105E41F5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BA2B3-85BD-4291-A481-811879C4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B377F-891B-489F-8318-DC59A7FD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63D71-F58D-4807-B558-AF205D46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A15C5-D3C0-4FF1-B02B-5F0DE669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5235E-FD40-448E-AAA3-40C78F95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867A8-4E54-4DFF-B138-870E3B3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DAEA-C515-4750-9CD0-3DBC7402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3C557-67E7-4C23-B403-03EA955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8243A-B79D-4DA4-BA9E-64F4CA7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FA70F-6309-41C0-9F76-B786324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BA6B2-1194-40F8-A835-21CC6960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838F1-DE2A-4179-A782-3C2DF75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548D9-7F72-4023-8D93-ED8732D1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8BBB4-778C-4A0E-957C-66450097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16FB0-ABF1-4CE1-8386-E6F732C7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E1622-4405-4373-91FA-D4C1030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13237-E986-4873-A4A9-75D066E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0424-2141-4E35-A074-17A6739F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20635-12B9-4D31-89CA-61FB939C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74E36-9534-47A3-8222-F210796F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F1817-9FE4-4FB7-8070-DCC52CF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21A15-F93E-4DB6-8F11-0E26333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5CFE1-2A6D-4449-8647-405A3AE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74761-1DB9-4EE2-B92E-D15E1FB1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90D67-D44F-4345-8520-5AB3709F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01CEA-8794-4EFD-B833-5BA7F0E3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979B0-9F95-48AB-8C59-5BD2F86A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A5A93-5635-4DA2-B82E-4A88DC73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B0DC-A3DE-4523-922D-92BA8C8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AC12C-F257-4F62-B958-CFEA4102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471E7-EDD6-4099-B3D6-C117BC52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4E3FC-FA22-49C6-80E0-A660FBFE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FEAC5-4E7C-4473-A7EC-46CC8528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A4EB1-A8FF-4E17-A5BE-0D173E8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51314-63D0-4A18-8400-F2FAEE0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271E6-CD0C-4F9E-BAF9-4EC7A51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EB888-00AB-4675-9B9E-BA3821A9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4A457-5B61-47F6-B039-BD6922CC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143C0-2C28-4DD7-B038-C2088536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C883-5B50-4AC6-84B0-1B70C2CD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7185B-F566-49BA-8C94-9685CC19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3CD27-57D8-437A-A5AE-17CBE195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6D225-36CF-42E4-9BC9-DC7E639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48E5C-6B81-4E62-8F96-C1CCC7F3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A4B51-7987-4E72-AEA6-31DAA365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43A22-2AC0-4FD3-A70E-615BFBB9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2CC7B-C473-479E-A1A4-46547D1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E38F4-30ED-4539-8CA4-482808F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70561-A8B2-495C-9CE9-1D44CDD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68353-3405-45CC-B919-A1485DE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443F-ED51-4DAA-B4EB-8CBE5066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DA402-F5C4-44B4-82F9-2BF46E3E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FE95A-E27E-4AFD-B2F3-AB635F12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7C8F2-6F66-42A9-8EA6-9B132DAB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F64DB-34E0-4AB9-919D-0A307F21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F737F-6C69-4012-8906-8A70F92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3EFDB-C8AD-4B15-BE6F-19413689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2EAA7-82A6-4650-BBEF-B24866AB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44532-97D8-4A5B-8E84-0563F67B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7F0FC-1808-412A-8A9D-B1B90B30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586DA-2A2A-4283-B176-48B47FA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5EA-BA33-40BD-BF27-2CB26459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E3E3-110D-4DA5-B496-4CD0917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4BF60-4C26-4885-A79C-5E73610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78CA7-23FC-4306-A086-6FB91261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88128-8AAB-4B40-BFB4-78070F02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5D7EE-D8A7-4BF6-ABD5-EB8A578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A3011-E980-4DE5-8573-2870E54C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37371-E06A-40C5-963B-02EE9C3F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7503C-DC0B-4518-BE8B-313B916F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0C049-D5BD-4379-8E2F-809BB39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7E06A-384E-44F9-9C7D-C0B595D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6830A-5309-40EC-A2A6-0F6DA3E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CE74-06DE-4505-A906-3391343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8409D3-5B1B-47D5-B376-5E8E7204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80702-7AF8-41A3-B085-9FBA2E2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433A7-C26F-4C49-A4E1-8A28361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CF2D8-92F0-4E7F-ADB2-952CF96D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FF941-2364-4F72-884C-5B010452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E206F-5A31-4300-A8A9-9B1A4DE9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39664-C699-4419-9C9B-0142E298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17546-963E-47DD-A08A-AF8A3DA4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BDB5A-456C-4932-8AFD-6D7F5DBD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F8A78-3F9E-4CB1-B6FB-914B7D05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BD25-81D7-45A7-BD63-4AF6787C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D159F-F650-47C5-97F4-2D95A000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74B12-EFF2-4A88-AAC2-015ABB63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807D4-A2B2-438D-938D-25F4F18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FE9BF-BCDD-4A36-A426-FBD1A29F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29224-8908-46E1-B00C-EDC2D6C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B1B17-9E51-4487-9EB6-71EE6D8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638E7-5536-4C35-95DA-D2F5AB92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5C3E9-F4BB-47E2-A86D-4361813C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E0622-073F-45DF-AD4C-9D091131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DB8AD-019E-46FE-98E1-309AF1C6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0A9E-451E-47D3-BC6E-1CE144B9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150D5-8987-4F29-9D69-88698E3D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6E6E40-1717-4347-B2CE-FDC6B8BE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6BF19-C473-4989-8412-AA660BB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73CBD-260B-4FCB-ACA5-BDF0F47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1C4D2-5803-43B7-9252-A844C97D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39548-19D4-42AC-B189-DB0770D5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ADC53-9CD5-42F1-8609-2A31952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22E81-BEB3-45FF-8DA4-5AAC346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DAD5C-A667-41E5-8E80-6379553C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BDA978-8885-4D1B-B232-D38B5F25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F0B-A8CB-499A-8AAC-643A3082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CE6A3-2083-4FF8-84AC-95A3CEC8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5F81-88D1-4B5C-A2B8-1940CCB5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4629-4772-4904-B415-9B16BA88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CFCE-F9E4-4DED-9733-C9AD8EA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B2F5-4E2A-4E7B-9E90-B143D4B8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D36D-CEDD-4FF3-A7F3-BB18E198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35F-932A-4CF3-9BF4-C5A8163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8D8C-A274-4700-A4EB-C1FFE8B0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5A16-11A1-42FF-9419-4226539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B542-EA86-4225-9CAD-B877881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A5FB-345A-4737-93CF-83C99C1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D6C8-53E4-4118-ACC2-791A5F4A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F654-8069-4C26-AC5D-8BE48EAA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666D-7031-4863-9CB8-CBC3118B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34F1-664E-44C4-AB31-0D409463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C970-CA3F-442D-A047-65D282D4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FEBC-C579-4439-8DB5-2BDCFD9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B6F-BF6A-4C5A-97C1-251A97F3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15D5-447B-468D-8473-8E6DB50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FB54-846A-45D4-845C-A7F69B11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5035-FF1D-4B86-902E-E2C84D3A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4F65-8DD4-44E6-B59F-4073882F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05C6-4826-4836-ACCB-5D63C04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526E-EABD-4F0B-B745-3227020B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9B60-C9C0-460A-9F6B-EC2D777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C40E-694E-4D85-9695-650ED5E7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1425-D209-4498-BB4F-7AC7C9E8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8A0C-A0B3-4444-BBE3-DF0FFCB4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8EE-DFCF-4087-840A-A32F19C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F196-53F7-4DB6-94EF-2AC859C2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A937-23EE-4ED5-AB0E-180C389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684B-A511-44EB-A73E-2A66220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5882-5D5A-42C4-BDA9-6384735E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C0C8-67FF-45FA-8D02-0DC56CE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29A1E-23D1-43DE-9119-E932C9F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2C5C2-7A58-4307-9BCB-890CC28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6A913-B018-4FE1-9382-3374E11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CD59-F91F-4FE0-9D5E-AD0960C1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EE73-3782-4548-A3A3-3D2565F5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E3D-99E5-4542-8957-115887E7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B42C-EB79-46A4-8052-1FD7C094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5B468-8DDF-4C84-A5FA-A6FEB7D0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C05E3-D943-441F-A417-5436D9F4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0726-3B20-4BD4-BBEA-5AB8C64B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47687-5358-4932-8076-B54E260A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9EB5-FE7C-4AC7-955A-DEADBFEF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A2AD2-AFC2-4C26-82DD-290A6810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A2C39-9A93-4E08-9C6C-1763EC7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3A52-5AF7-4583-B258-0A07806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ED97D-E973-4A79-8C77-2DDA5F8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978-6481-4677-B37A-9ADAC16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F3AE9-9306-414D-962A-A8562DDE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8F5D-8107-4E13-9BC3-2AABFD77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7E004-B6E2-4E3B-8587-49B482F1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7855D-20C8-4EB5-ABA4-24191F4B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D20E1-31A8-420F-88DD-7E546097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424E-459C-47AD-BE60-072855AC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8C377-E768-4115-9479-02BE4BA8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F7BD4-C18C-474D-818A-E05DDA95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361FD-01E4-4ACF-AC8A-8894F0A1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6558-E368-4C81-923B-4034E34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E63-DC87-401E-A4E9-A6488E4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F0199-8019-4C5E-AEFA-06476FA3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5DEC-57FF-4391-888A-1247167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17C6C-8786-48F3-A193-4E589E83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A130-E501-4E7A-B652-82945667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415E4-7593-4177-9E81-33EE762D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A130-7CF0-4E2C-8FAB-AE31727D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8F2F-6291-4079-97A7-93A837B7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2CB64-66EB-42D0-BA36-0D2947F4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2502C-78BE-4EA8-A7A8-AF6D88E6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0508C-1471-4A07-A97F-2922EF7C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3E4-B290-4D32-8EA0-982AE75F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D04DC-6A19-48D7-B29A-067456F1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14C0E-BF03-4852-9C73-B40AC96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9C6F3-257B-49A3-9643-EBA4A20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FE3B3-C65D-4915-ACCC-7EBEEE4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3ABA2-AB9E-43B8-BC16-780E039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2AD17-C4B0-4F1F-86E8-90407476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F22D-E824-4524-A28D-CEDF936B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671C5-F10B-4111-930F-37FDA08F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52D23-37F6-4B43-9C63-ABA19787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3B45B-A7E4-465B-A80C-F6A49B56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C462-093B-42ED-AB9E-2B1E716E9D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DAAC-DE6E-458F-915A-E1C1774244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A2EC-4C1E-4559-9D02-1E534339B8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6F8D-A8DB-47CD-BB1C-A8F42C4B57A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550-5A38-4695-9545-8E814C7F7B4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D59C-061B-402F-A924-3C1232FA69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3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FA5F-D45F-4AD3-A914-6010BF1BC63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3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28F0-73F1-486B-BA48-D9F21B5EBF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1FA3-CD5F-4560-8BB4-854BB1FEC7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8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8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4378-4ECB-421C-8AA5-50BE10298E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8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3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F81E-EF0F-4BD9-AD1F-9D429D7A55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2E29-FA10-43FC-B54B-353855BF39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A73F-BBB9-491F-853C-E68A8B22F0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EC2D-3D08-419A-9163-6637E729C9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AB9-4F33-49B2-BB82-7A2F20B004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593B-5F7B-42F3-A7CE-0424B29C15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C40-E411-491F-A3B9-7512AB2603F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FF9E-43E4-490F-A473-74CB0FA7A3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4FE-1AE0-4F66-AB53-ECCE8EFCC8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14FF-8EDE-4D0A-958D-17EEA4DEF3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www.mun.ca%2Fbiology%2Fscarr%2FHuman_Karyotype.html&amp;ei=wAKdVcqBD-TiywPfnqLYCg&amp;bvm=bv.96952980,d.bGQ&amp;psig=AFQjCNF55IXNPyiNeL-unh5YSCyZAoWgvA&amp;ust=1436439609999253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contexo.info%2FDNA_Basics%2Fchromosomes.htm&amp;ei=DgOdVZTLHOLYyAO2z5rICg&amp;bvm=bv.96952980,d.bGQ&amp;psig=AFQjCNEozFmLUAcNf-8myRDz0fo94viffg&amp;ust=1436439668686197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://151.fosu.edu.cn/dwyc/chapter2/chapter2-2.htm&amp;ei=tQSdVar8A6SqywPD4ofICg&amp;bvm=bv.96952980,d.bGQ&amp;psig=AFQjCNEw7jACpfCFijckDQcjf2n6dLH7ow&amp;ust=1436440035991170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nature.com%2Fncomms%2F2013%2F131003%2Fncomms3537%2Ffull%2Fncomms3537.html%253FWT.ec_id%253DNCOMMS-20131009%3Fmessage-global%3Dremove%26WT.ec_id%3DNCOMMS-20131009&amp;ei=PRGdVcydCcb2Upbgp5AL&amp;bvm=bv.96952980,d.bGQ&amp;psig=AFQjCNEySE1rLCGslqwdQW0DJ2h-qnykiA&amp;ust=1436443292199836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osullivanlab.squarespace.com%2Fabout-telomeres%2F&amp;ei=i4afVbrCC8jxULetrpgL&amp;bvm=bv.97653015,d.bGQ&amp;psig=AFQjCNHiWvEz4xnNG97lgIJaLlBo8JV8aQ&amp;ust=1436604330241260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google.rs/url?sa=i&amp;rct=j&amp;q=&amp;esrc=s&amp;source=images&amp;cd=&amp;cad=rja&amp;uact=8&amp;ved=0CAcQjRw&amp;url=http%3A%2F%2Fwww.rechargebiomedical.com%2Faging%2Ftelomeres-and-telomerase%2F&amp;ei=44afVaKSMcjTUf-Ug6gL&amp;bvm=bv.97653015,d.bGQ&amp;psig=AFQjCNHiWvEz4xnNG97lgIJaLlBo8JV8aQ&amp;ust=1436604330241260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rechargebiomedical.com%2Faging%2Ftelomeres-and-telomerase%2F&amp;ei=44afVaKSMcjTUf-Ug6gL&amp;bvm=bv.97653015,d.bGQ&amp;psig=AFQjCNHiWvEz4xnNG97lgIJaLlBo8JV8aQ&amp;ust=1436604330241260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560" y="5029200"/>
            <a:ext cx="68785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. Генетика</a:t>
            </a:r>
            <a:br>
              <a:rPr sz="4800"/>
            </a:br>
            <a:br>
              <a:rPr sz="43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Наука о насле</a:t>
            </a: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ивању особина, као и</a:t>
            </a:r>
            <a:r>
              <a:rPr b="1" lang="sr-RS" sz="2500" spc="-1" strike="noStrike">
                <a:solidFill>
                  <a:srgbClr val="ffffff"/>
                </a:solidFill>
                <a:latin typeface="Arial"/>
              </a:rPr>
              <a:t> о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променљивости особина које се насле</a:t>
            </a: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ују.</a:t>
            </a:r>
            <a:br>
              <a:rPr sz="2500"/>
            </a:br>
            <a:r>
              <a:rPr b="1" lang="sr-Latn-CS" sz="2500" spc="-1" strike="noStrike">
                <a:solidFill>
                  <a:srgbClr val="ffffff"/>
                </a:solidFill>
                <a:latin typeface="Arial"/>
              </a:rPr>
              <a:t>Оснивач: Грегор Мендел</a:t>
            </a:r>
            <a:r>
              <a:rPr b="0" lang="en-US" sz="4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(1822.-1884.)</a:t>
            </a: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сновна јединица грађе ДНК је 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дезоксирибонуклеотид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зоксириб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клеотид се састоји о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нтозног шећера </a:t>
            </a:r>
            <a:r>
              <a:rPr b="0" lang="sr-Latn-CS" sz="2000" spc="-1" strike="noStrike">
                <a:solidFill>
                  <a:srgbClr val="0000cc"/>
                </a:solidFill>
                <a:latin typeface="Arial"/>
              </a:rPr>
              <a:t>дезоксирибо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с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 груп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cc"/>
                </a:solidFill>
                <a:latin typeface="Arial"/>
              </a:rPr>
              <a:t>Р</a:t>
            </a:r>
            <a:r>
              <a:rPr b="0" lang="sr-Latn-CS" sz="20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азотне б</a:t>
            </a:r>
            <a:r>
              <a:rPr b="0" lang="sr-Latn-CS" sz="2000" spc="-1" strike="noStrike">
                <a:solidFill>
                  <a:srgbClr val="0000cc"/>
                </a:solidFill>
                <a:latin typeface="Arial"/>
              </a:rPr>
              <a:t>азе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урин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А,G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ли пиримидин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,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зависности од 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азе разликујемо 4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зоксириб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уклеот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</a:rPr>
              <a:t>Суседни нуклеотиди су повезани фосфодиестарским веза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а </a:t>
            </a:r>
            <a:r>
              <a:rPr b="0" lang="sr-RS" sz="2000" spc="-1" strike="noStrike">
                <a:solidFill>
                  <a:srgbClr val="002060"/>
                </a:solidFill>
                <a:latin typeface="Arial"/>
              </a:rPr>
              <a:t>наспрамни водоничним веза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9" descr="nuclei1"/>
          <p:cNvPicPr/>
          <p:nvPr/>
        </p:nvPicPr>
        <p:blipFill>
          <a:blip r:embed="rId1"/>
          <a:srcRect l="0" t="0" r="0" b="13295"/>
          <a:stretch/>
        </p:blipFill>
        <p:spPr>
          <a:xfrm>
            <a:off x="6343560" y="1184400"/>
            <a:ext cx="2800440" cy="2361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5" descr="nucleotides"/>
          <p:cNvPicPr/>
          <p:nvPr/>
        </p:nvPicPr>
        <p:blipFill>
          <a:blip r:embed="rId2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НК молекул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23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РНК је 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рибонуклеотиду се налази пентозни шећер 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 уместо тимина заступљена је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идинска б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dna_versus_rna_reversed"/>
          <p:cNvPicPr/>
          <p:nvPr/>
        </p:nvPicPr>
        <p:blipFill>
          <a:blip r:embed="rId1"/>
          <a:srcRect l="0" t="0" r="0" b="11492"/>
          <a:stretch/>
        </p:blipFill>
        <p:spPr>
          <a:xfrm>
            <a:off x="4343400" y="762120"/>
            <a:ext cx="4191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sr-CS" sz="4100" spc="-1" strike="noStrike">
                <a:solidFill>
                  <a:srgbClr val="ff95c0"/>
                </a:solidFill>
                <a:latin typeface="Corbel"/>
              </a:rPr>
              <a:t> </a:t>
            </a:r>
            <a:r>
              <a:rPr b="1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Хистонски протеини (хистони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и протеини, дужине 100- 200 аминокисе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-30% АРГИНИН+  и  ЛИЗИН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жн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за структурну организацију хрома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и су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неспецифични </a:t>
            </a: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инхибитори експресије ген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кујемо </a:t>
            </a:r>
            <a:r>
              <a:rPr b="1" lang="sr-Latn-CS" sz="2000" spc="-1" strike="noStrike">
                <a:solidFill>
                  <a:srgbClr val="0000cc"/>
                </a:solidFill>
                <a:latin typeface="Arial"/>
              </a:rPr>
              <a:t>5 </a:t>
            </a:r>
            <a:r>
              <a:rPr b="1" lang="sr-CS" sz="2000" spc="-1" strike="noStrike">
                <a:solidFill>
                  <a:srgbClr val="0000cc"/>
                </a:solidFill>
                <a:latin typeface="Arial"/>
              </a:rPr>
              <a:t>клас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стон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1,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2A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H2B,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3,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4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 хистони осим Н1,  са по 2 молекула, гра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тамерн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рж нуклеозо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6" name="Picture 5" descr=""/>
          <p:cNvPicPr/>
          <p:nvPr/>
        </p:nvPicPr>
        <p:blipFill>
          <a:blip r:embed="rId1"/>
          <a:stretch/>
        </p:blipFill>
        <p:spPr>
          <a:xfrm>
            <a:off x="6222960" y="4724280"/>
            <a:ext cx="29210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Нуклеозом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основна јединица грађе хроматина; </a:t>
            </a:r>
            <a:r>
              <a:rPr b="1" lang="sr-CS" sz="3200" spc="-1" strike="noStrike">
                <a:solidFill>
                  <a:srgbClr val="002060"/>
                </a:solidFill>
                <a:latin typeface="Arial"/>
              </a:rPr>
              <a:t>хистон Н1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везује 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НК за срж нуклеозом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68" name="Picture 9" descr=""/>
          <p:cNvPicPr/>
          <p:nvPr/>
        </p:nvPicPr>
        <p:blipFill>
          <a:blip r:embed="rId1"/>
          <a:stretch/>
        </p:blipFill>
        <p:spPr>
          <a:xfrm>
            <a:off x="1143000" y="3871800"/>
            <a:ext cx="6076800" cy="29718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0" descr=""/>
          <p:cNvPicPr/>
          <p:nvPr/>
        </p:nvPicPr>
        <p:blipFill>
          <a:blip r:embed="rId2"/>
          <a:stretch/>
        </p:blipFill>
        <p:spPr>
          <a:xfrm>
            <a:off x="3048120" y="185256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Нехистонски, кисели или резидуални  протеини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ступљени су </a:t>
            </a:r>
            <a:r>
              <a:rPr b="1" lang="sr-CS" sz="2000" spc="-1" strike="noStrike">
                <a:solidFill>
                  <a:srgbClr val="0000cc"/>
                </a:solidFill>
                <a:latin typeface="Arial"/>
              </a:rPr>
              <a:t>у малој количин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хромозом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стоји </a:t>
            </a:r>
            <a:r>
              <a:rPr b="1" lang="sr-CS" sz="2000" spc="-1" strike="noStrike">
                <a:solidFill>
                  <a:srgbClr val="0000cc"/>
                </a:solidFill>
                <a:latin typeface="Arial"/>
              </a:rPr>
              <a:t>велики број клас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вих проте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cc"/>
                </a:solidFill>
                <a:latin typeface="Arial"/>
              </a:rPr>
              <a:t>Специфични с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 сваку врсту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 су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ензими репликације и транскрип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модификатори хистона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регулаторни протеини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специфични </a:t>
            </a: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активатори гена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4" descr="chromatin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81080" y="762120"/>
            <a:ext cx="5715000" cy="6095880"/>
          </a:xfrm>
          <a:prstGeom prst="rect">
            <a:avLst/>
          </a:prstGeom>
          <a:ln w="0">
            <a:noFill/>
          </a:ln>
        </p:spPr>
      </p:pic>
      <p:sp>
        <p:nvSpPr>
          <p:cNvPr id="973" name="Text Box 6"/>
          <p:cNvSpPr/>
          <p:nvPr/>
        </p:nvSpPr>
        <p:spPr>
          <a:xfrm>
            <a:off x="1828800" y="873000"/>
            <a:ext cx="1676520" cy="337320"/>
          </a:xfrm>
          <a:prstGeom prst="rect">
            <a:avLst/>
          </a:prstGeom>
          <a:solidFill>
            <a:srgbClr val="dbf5f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66"/>
                </a:solidFill>
                <a:latin typeface="Arial Black"/>
              </a:rPr>
              <a:t>Хеликс Д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1790640" y="1717560"/>
            <a:ext cx="1905120" cy="307080"/>
          </a:xfrm>
          <a:prstGeom prst="rect">
            <a:avLst/>
          </a:prstGeom>
          <a:solidFill>
            <a:srgbClr val="dbf5f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cc0066"/>
                </a:solidFill>
                <a:latin typeface="Arial Black"/>
              </a:rPr>
              <a:t>Нуклеозомна н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1828800" y="2600280"/>
            <a:ext cx="1828800" cy="580680"/>
          </a:xfrm>
          <a:prstGeom prst="rect">
            <a:avLst/>
          </a:prstGeom>
          <a:solidFill>
            <a:srgbClr val="dbf5f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66"/>
                </a:solidFill>
                <a:latin typeface="Arial Black"/>
              </a:rPr>
              <a:t>Хроматинска н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1822320" y="3514680"/>
            <a:ext cx="1905120" cy="337320"/>
          </a:xfrm>
          <a:prstGeom prst="rect">
            <a:avLst/>
          </a:prstGeom>
          <a:solidFill>
            <a:srgbClr val="dbf5f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66"/>
                </a:solidFill>
                <a:latin typeface="Arial Black"/>
              </a:rPr>
              <a:t>Стадијум петљ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1641600" y="4738680"/>
            <a:ext cx="1981080" cy="580680"/>
          </a:xfrm>
          <a:prstGeom prst="rect">
            <a:avLst/>
          </a:prstGeom>
          <a:solidFill>
            <a:srgbClr val="dbf5f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66"/>
                </a:solidFill>
                <a:latin typeface="Arial Black"/>
              </a:rPr>
              <a:t>Кондензована форма хромат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1905120" y="6188040"/>
            <a:ext cx="1676160" cy="580680"/>
          </a:xfrm>
          <a:prstGeom prst="rect">
            <a:avLst/>
          </a:prstGeom>
          <a:solidFill>
            <a:srgbClr val="dbf5f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66"/>
                </a:solidFill>
                <a:latin typeface="Arial Black"/>
              </a:rPr>
              <a:t>Метафазни хромоз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1386000" y="69840"/>
            <a:ext cx="6629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аковање ДНК молекула до метафазног хромоз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mikrografija nukleozom"/>
          <p:cNvPicPr/>
          <p:nvPr/>
        </p:nvPicPr>
        <p:blipFill>
          <a:blip r:embed="rId1"/>
          <a:stretch/>
        </p:blipFill>
        <p:spPr>
          <a:xfrm>
            <a:off x="1828800" y="2514600"/>
            <a:ext cx="5649840" cy="1771560"/>
          </a:xfrm>
          <a:prstGeom prst="rect">
            <a:avLst/>
          </a:prstGeom>
          <a:ln w="0">
            <a:noFill/>
          </a:ln>
        </p:spPr>
      </p:pic>
      <p:sp>
        <p:nvSpPr>
          <p:cNvPr id="981" name="Text Box 3"/>
          <p:cNvSpPr/>
          <p:nvPr/>
        </p:nvSpPr>
        <p:spPr>
          <a:xfrm>
            <a:off x="3124080" y="1981080"/>
            <a:ext cx="2971800" cy="368280"/>
          </a:xfrm>
          <a:prstGeom prst="rect">
            <a:avLst/>
          </a:prstGeom>
          <a:solidFill>
            <a:srgbClr val="ff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99"/>
                </a:solidFill>
                <a:latin typeface="Arial"/>
              </a:rPr>
              <a:t>Хроматинска 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3124080" y="4572000"/>
            <a:ext cx="25909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99"/>
                </a:solidFill>
                <a:latin typeface="Arial"/>
              </a:rPr>
              <a:t>Нуклеозомна 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2590920" y="914400"/>
            <a:ext cx="40384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икрографије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hromozom elek mikro-1"/>
          <p:cNvPicPr/>
          <p:nvPr/>
        </p:nvPicPr>
        <p:blipFill>
          <a:blip r:embed="rId1"/>
          <a:stretch/>
        </p:blipFill>
        <p:spPr>
          <a:xfrm>
            <a:off x="1517760" y="1219320"/>
            <a:ext cx="5711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2" descr="HROMOZOMI 4 I 5"/>
          <p:cNvPicPr/>
          <p:nvPr/>
        </p:nvPicPr>
        <p:blipFill>
          <a:blip r:embed="rId1"/>
          <a:srcRect l="0" t="0" r="0" b="50596"/>
          <a:stretch/>
        </p:blipFill>
        <p:spPr>
          <a:xfrm>
            <a:off x="1752480" y="2209680"/>
            <a:ext cx="5715000" cy="32004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умани метафазни хромозоми</a:t>
            </a:r>
            <a:r>
              <a:rPr b="0" lang="sr-CS" sz="36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Кариотип, к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риограм, идиограм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80520" y="198072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уп хромозома у једру ћелије - </a:t>
            </a:r>
            <a:r>
              <a:rPr b="1" lang="sr-CS" sz="2800" spc="-1" strike="noStrike">
                <a:solidFill>
                  <a:srgbClr val="ff3399"/>
                </a:solidFill>
                <a:latin typeface="Arial"/>
              </a:rPr>
              <a:t>кари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99"/>
                </a:solidFill>
                <a:latin typeface="Arial"/>
              </a:rPr>
              <a:t>Кариограм</a:t>
            </a:r>
            <a:r>
              <a:rPr b="0" lang="sr-C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фотографисани хромозоми кариоти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зрезан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наређани по облику и велич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99"/>
                </a:solidFill>
                <a:latin typeface="Arial"/>
              </a:rPr>
              <a:t>Идиогра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ематски приказ региона и субрегиона хромоз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300" spc="-1" strike="noStrike">
                <a:solidFill>
                  <a:srgbClr val="000000"/>
                </a:solidFill>
                <a:latin typeface="Arial"/>
              </a:rPr>
              <a:t>Научне дисциплине генетике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ема нивоу организације наследне материје на коме се врши проучавање</a:t>
            </a:r>
            <a:r>
              <a:rPr b="0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рна ген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гене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(Радијациона ген. и Хемијска мутагене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нетика раз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ћа (Генетика канцера, Имуногенетика, Генетика старењ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пулациона генетика (Еволуциона и Ек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умани </a:t>
            </a:r>
            <a:r>
              <a:rPr b="1" lang="sr-CS" sz="3600" spc="-1" strike="noStrike">
                <a:solidFill>
                  <a:srgbClr val="ff3399"/>
                </a:solidFill>
                <a:latin typeface="Arial"/>
              </a:rPr>
              <a:t>кариотип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0" name="Picture 5" descr="https://encrypted-tbn0.gstatic.com/images?q=tbn:ANd9GcSocEZjt2-1mUBQQnOMpzHy8U0F22rVyI8UzRfIaovv7PYb4s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981080"/>
            <a:ext cx="5181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99"/>
                </a:solidFill>
                <a:latin typeface="Arial"/>
              </a:rPr>
              <a:t>Хумани кариограм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2" name="Picture 5" descr="http://www.contexo.info/DNA_Basics/images/karyotypeX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1337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99"/>
                </a:solidFill>
                <a:latin typeface="Arial"/>
              </a:rPr>
              <a:t>Идиограм хуманих хромозом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4" name="Picture 4" descr=""/>
          <p:cNvPicPr/>
          <p:nvPr/>
        </p:nvPicPr>
        <p:blipFill>
          <a:blip r:embed="rId1"/>
          <a:srcRect l="0" t="19032" r="0" b="0"/>
          <a:stretch/>
        </p:blipFill>
        <p:spPr>
          <a:xfrm>
            <a:off x="1905120" y="2133720"/>
            <a:ext cx="50958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a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орфолошка структура хуманог хромозом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6" name="Picture 7" descr=""/>
          <p:cNvPicPr/>
          <p:nvPr/>
        </p:nvPicPr>
        <p:blipFill>
          <a:blip r:embed="rId1"/>
          <a:stretch/>
        </p:blipFill>
        <p:spPr>
          <a:xfrm>
            <a:off x="1274760" y="2286000"/>
            <a:ext cx="6781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Центромера </a:t>
            </a:r>
            <a:r>
              <a:rPr b="1" lang="sr-RS" sz="3600" spc="-1" strike="noStrike">
                <a:solidFill>
                  <a:srgbClr val="0000cc"/>
                </a:solidFill>
                <a:latin typeface="Arial"/>
              </a:rPr>
              <a:t>(примарно сужење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лога центромер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зује две сестринске хроматиде хромоз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зује хромозом са нитима деобног вретена-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механички центар (кинетохо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умани хромозоми нормално имају по 1 центроме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мозом са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већим бројем центромера-полицентричан </a:t>
            </a:r>
            <a:r>
              <a:rPr b="0" lang="sr-CS" sz="2800" spc="-1" strike="noStrike">
                <a:solidFill>
                  <a:srgbClr val="002060"/>
                </a:solidFill>
                <a:latin typeface="Arial"/>
              </a:rPr>
              <a:t>хромоз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lang="sr-CS" sz="2800" spc="-1" strike="noStrike">
                <a:solidFill>
                  <a:srgbClr val="0000cc"/>
                </a:solidFill>
                <a:latin typeface="Arial"/>
              </a:rPr>
              <a:t>без центромере је ацентричан хромоз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рсте хромозома према положају центромер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00" name="irc_mi" descr="http://151.fosu.edu.cn/dwyc/chapter2/chapte2-2.gif">
            <a:hlinkClick r:id="rId1"/>
          </p:cNvPr>
          <p:cNvPicPr/>
          <p:nvPr/>
        </p:nvPicPr>
        <p:blipFill>
          <a:blip r:embed="rId2"/>
          <a:srcRect l="0" t="0" r="0" b="31433"/>
          <a:stretch/>
        </p:blipFill>
        <p:spPr>
          <a:xfrm>
            <a:off x="1295280" y="2286000"/>
            <a:ext cx="5943600" cy="1685880"/>
          </a:xfrm>
          <a:prstGeom prst="rect">
            <a:avLst/>
          </a:prstGeom>
          <a:ln w="0">
            <a:noFill/>
          </a:ln>
        </p:spPr>
      </p:pic>
      <p:sp>
        <p:nvSpPr>
          <p:cNvPr id="1001" name="Rectangle 4"/>
          <p:cNvSpPr/>
          <p:nvPr/>
        </p:nvSpPr>
        <p:spPr>
          <a:xfrm>
            <a:off x="1371600" y="3962520"/>
            <a:ext cx="1295280" cy="685800"/>
          </a:xfrm>
          <a:prstGeom prst="rect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ffffff"/>
                </a:solidFill>
                <a:latin typeface="Arial"/>
              </a:rPr>
              <a:t>метацентрич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2971800" y="3962520"/>
            <a:ext cx="1295280" cy="685800"/>
          </a:xfrm>
          <a:prstGeom prst="rect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ffffff"/>
                </a:solidFill>
                <a:latin typeface="Arial"/>
              </a:rPr>
              <a:t>субметацентри-ч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6"/>
          <p:cNvSpPr/>
          <p:nvPr/>
        </p:nvSpPr>
        <p:spPr>
          <a:xfrm>
            <a:off x="4419720" y="3962520"/>
            <a:ext cx="1295280" cy="685800"/>
          </a:xfrm>
          <a:prstGeom prst="rect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ffffff"/>
                </a:solidFill>
                <a:latin typeface="Arial"/>
              </a:rPr>
              <a:t>акроцентрич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5943600" y="3962520"/>
            <a:ext cx="1295280" cy="685800"/>
          </a:xfrm>
          <a:prstGeom prst="rect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ffffff"/>
                </a:solidFill>
                <a:latin typeface="Arial"/>
              </a:rPr>
              <a:t>телоцентрич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8"/>
          <p:cNvSpPr/>
          <p:nvPr/>
        </p:nvSpPr>
        <p:spPr>
          <a:xfrm>
            <a:off x="1752480" y="5334120"/>
            <a:ext cx="54864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хуманом кариотипу </a:t>
            </a:r>
            <a:r>
              <a:rPr b="0" lang="sr-RS" sz="1800" spc="-1" strike="noStrike">
                <a:solidFill>
                  <a:srgbClr val="0000cc"/>
                </a:solidFill>
                <a:latin typeface="Arial"/>
              </a:rPr>
              <a:t>нормално се налазе мета, субмета и акроцентрични хромозом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Еухроматин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52280" y="236196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ондензован хроматин, 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слабије (светлије) се бој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ним боја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Богатији ј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G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ним паров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Рано се реплицир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фазе интерфа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Функционално је актива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о хромат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Picture 4" descr="nucchr3"/>
          <p:cNvPicPr/>
          <p:nvPr/>
        </p:nvPicPr>
        <p:blipFill>
          <a:blip r:embed="rId1"/>
          <a:stretch/>
        </p:blipFill>
        <p:spPr>
          <a:xfrm>
            <a:off x="4952880" y="685800"/>
            <a:ext cx="3670560" cy="14605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5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Хетерохроматин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04920" y="12193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кондензован део хромат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тамније се боји базним боја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Богатији је А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ним  паров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Касно се реплику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фа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Врсте хетерохромат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- к</a:t>
            </a:r>
            <a:r>
              <a:rPr b="0" lang="sr-Latn-CS" sz="2400" spc="-1" strike="noStrike">
                <a:solidFill>
                  <a:srgbClr val="ff3399"/>
                </a:solidFill>
                <a:latin typeface="Arial"/>
              </a:rPr>
              <a:t>онститутив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лази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егиону центроме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- ф</a:t>
            </a:r>
            <a:r>
              <a:rPr b="0" lang="sr-Latn-CS" sz="2400" spc="-1" strike="noStrike">
                <a:solidFill>
                  <a:srgbClr val="ff3399"/>
                </a:solidFill>
                <a:latin typeface="Arial"/>
              </a:rPr>
              <a:t>акултатив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ља функционално неактивно стање неких хромозом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мо на једном хромозому из п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активни X хром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Picture 5" descr=""/>
          <p:cNvPicPr/>
          <p:nvPr/>
        </p:nvPicPr>
        <p:blipFill>
          <a:blip r:embed="rId1"/>
          <a:stretch/>
        </p:blipFill>
        <p:spPr>
          <a:xfrm>
            <a:off x="5870520" y="1676520"/>
            <a:ext cx="3048120" cy="2361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"/>
          <p:cNvPicPr/>
          <p:nvPr/>
        </p:nvPicPr>
        <p:blipFill>
          <a:blip r:embed="rId2"/>
          <a:stretch/>
        </p:blipFill>
        <p:spPr>
          <a:xfrm>
            <a:off x="6492960" y="4038480"/>
            <a:ext cx="24256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Секундарно сужењ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0492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ог сужења 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нтеза материјала који улази у грађу нуклеолус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cc"/>
                </a:solidFill>
                <a:latin typeface="Arial"/>
              </a:rPr>
              <a:t>организатор нуклеолуса</a:t>
            </a:r>
            <a:r>
              <a:rPr b="1" i="1" lang="sr-RS" sz="24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R </a:t>
            </a:r>
            <a:r>
              <a:rPr b="1" i="1" lang="sr-RS" sz="2400" spc="-1" strike="noStrike">
                <a:solidFill>
                  <a:srgbClr val="0000cc"/>
                </a:solidFill>
                <a:latin typeface="Arial"/>
              </a:rPr>
              <a:t>регион)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cc"/>
                </a:solidFill>
                <a:latin typeface="Arial"/>
              </a:rPr>
              <a:t>Састоји се од умеренорепетитивних секвенци Д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ом региону се налаз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гени за рРН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арно сужење немају сви хромозоми у хуманом кариотипу,  а налазе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раци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мозо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, 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6  и </a:t>
            </a:r>
            <a:r>
              <a:rPr b="1" lang="sr-CS" sz="2400" spc="-1" strike="noStrike">
                <a:solidFill>
                  <a:srgbClr val="0000cc"/>
                </a:solidFill>
                <a:latin typeface="Arial"/>
              </a:rPr>
              <a:t>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раци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х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роцен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них хромозома (13, 14, 15, 21 и 2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6" name="Picture 5" descr="http://www.nature.com/ncomms/2013/131003/ncomms3537/images/ncomms3537-f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600200" cy="2362320"/>
          </a:xfrm>
          <a:prstGeom prst="rect">
            <a:avLst/>
          </a:prstGeom>
          <a:ln w="0">
            <a:noFill/>
          </a:ln>
        </p:spPr>
      </p:pic>
      <p:cxnSp>
        <p:nvCxnSpPr>
          <p:cNvPr id="1017" name="Straight Arrow Connector 5"/>
          <p:cNvCxnSpPr/>
          <p:nvPr/>
        </p:nvCxnSpPr>
        <p:spPr>
          <a:xfrm>
            <a:off x="7162560" y="2133360"/>
            <a:ext cx="6865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18" name="Rectangle 6"/>
          <p:cNvSpPr/>
          <p:nvPr/>
        </p:nvSpPr>
        <p:spPr>
          <a:xfrm>
            <a:off x="6248520" y="1981080"/>
            <a:ext cx="914400" cy="381240"/>
          </a:xfrm>
          <a:prstGeom prst="rect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ffffff"/>
                </a:solidFill>
                <a:latin typeface="Arial"/>
              </a:rPr>
              <a:t>Секундарн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ffffff"/>
                </a:solidFill>
                <a:latin typeface="Arial"/>
              </a:rPr>
              <a:t>сужење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Сателити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80520" y="1676160"/>
            <a:ext cx="393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лазе се н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крајевима 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ракова акроцентричних хромозо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Варирају по својој дужи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Могу бити двојн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или једностру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0000"/>
                </a:solidFill>
                <a:latin typeface="Arial"/>
              </a:rPr>
              <a:t>Не садрже функционалне гене !!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8" descr="Резултат слика за chromosome satellite images"/>
          <p:cNvPicPr/>
          <p:nvPr/>
        </p:nvPicPr>
        <p:blipFill>
          <a:blip r:embed="rId1"/>
          <a:stretch/>
        </p:blipFill>
        <p:spPr>
          <a:xfrm>
            <a:off x="4267080" y="220968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1022" name="Down Arrow 12"/>
          <p:cNvSpPr/>
          <p:nvPr/>
        </p:nvSpPr>
        <p:spPr>
          <a:xfrm>
            <a:off x="7238880" y="24382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 u="sng">
                <a:solidFill>
                  <a:srgbClr val="ff0000"/>
                </a:solidFill>
                <a:uFillTx/>
                <a:latin typeface="Arial"/>
              </a:rPr>
              <a:t>2. </a:t>
            </a:r>
            <a:r>
              <a:rPr b="1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Према врсти организма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на коме се врши проучавање</a:t>
            </a:r>
            <a:r>
              <a:rPr b="1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) Генетика микроорганиз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) Генетика биљ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) Генетика животи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) Генетика човека-Хумана ген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Теломер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7632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мере су 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јеви хромоз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умани хромозоми у региону теломера садрже секвенцу 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 нуклеоти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ff3399"/>
                </a:solidFill>
                <a:latin typeface="Arial"/>
              </a:rPr>
              <a:t>ТАГ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ГГ </a:t>
            </a:r>
            <a:r>
              <a:rPr b="1" lang="sr-R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а се више хиљада пута узастопно понављ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лога теломера 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одржава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ју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 линеарн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 интегритет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повез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ују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 хромозом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 за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унутрашњу страну 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једарн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мембран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егулишу дужину живота ћелије,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то се 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мењају у току развића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cc"/>
                </a:solidFill>
                <a:latin typeface="Arial"/>
              </a:rPr>
              <a:t>регулишу број ћелијских део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http://static1.squarespace.com/static/532e4d42e4b0ff70f47aa68a/534192fbe4b09aa0fe627b63/53419735e4b0cccdfc3bb867/1397173735746/Aging-process-affected-by-lifestyle-and-telomere-length-650x4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5228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1" descr="http://rechargebiomedical.com/userfiles/images/telomere-zoo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3200400"/>
            <a:ext cx="2666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ломер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регулишу дужину </a:t>
            </a:r>
            <a:br>
              <a:rPr sz="3600"/>
            </a:b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живота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0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11" descr="http://rechargebiomedical.com/userfiles/images/telomere-z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895480"/>
            <a:ext cx="2667240" cy="14479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http://www.rviplanning.com/wp-content/uploads/2015/01/ChromosomeTelomere.jpg"/>
          <p:cNvPicPr/>
          <p:nvPr/>
        </p:nvPicPr>
        <p:blipFill>
          <a:blip r:embed="rId3"/>
          <a:stretch/>
        </p:blipFill>
        <p:spPr>
          <a:xfrm>
            <a:off x="533520" y="1828800"/>
            <a:ext cx="5810040" cy="4038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http://www.revivemdmedicalgroup.com/uploads/2/4/4/8/2448782/9089254.jpg?224"/>
          <p:cNvPicPr/>
          <p:nvPr/>
        </p:nvPicPr>
        <p:blipFill>
          <a:blip r:embed="rId4"/>
          <a:stretch/>
        </p:blipFill>
        <p:spPr>
          <a:xfrm>
            <a:off x="7086600" y="6858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" descr="http://www.buzzle.com/img/articleImages/597297-5555-20.jpg"/>
          <p:cNvPicPr/>
          <p:nvPr/>
        </p:nvPicPr>
        <p:blipFill>
          <a:blip r:embed="rId5"/>
          <a:stretch/>
        </p:blipFill>
        <p:spPr>
          <a:xfrm>
            <a:off x="6477120" y="2819520"/>
            <a:ext cx="2476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ломере обојене флуоресцентном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хибридизацијом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36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7" name="Rectangle 3"/>
          <p:cNvSpPr/>
          <p:nvPr/>
        </p:nvSpPr>
        <p:spPr>
          <a:xfrm>
            <a:off x="6400800" y="3352680"/>
            <a:ext cx="1981080" cy="114300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Светлећи сигнали указују на постојање теломерних регио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6" descr="https://encrypted-tbn3.gstatic.com/images?q=tbn:ANd9GcQBgvOCWDTlB-Be7AIF00Cvee5qcMoTagZES3dxx360Pe-7ZTxn"/>
          <p:cNvPicPr/>
          <p:nvPr/>
        </p:nvPicPr>
        <p:blipFill>
          <a:blip r:embed="rId1"/>
          <a:stretch/>
        </p:blipFill>
        <p:spPr>
          <a:xfrm>
            <a:off x="1752480" y="1905120"/>
            <a:ext cx="4191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тандардизација хуманог кариоти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 txBox="1"/>
          <p:nvPr/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андардизација хуманог кариотип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вршена на скуповима у Денверу 196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ндо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963.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ика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966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и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97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3399"/>
                </a:solidFill>
                <a:latin typeface="Arial"/>
              </a:rPr>
              <a:t> Денве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је дефинисан кариоти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мозоми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ељени у 7 група на основу  дужине хромозома и положаја центроме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н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хромозом сврстан је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3399"/>
                </a:solidFill>
                <a:latin typeface="Arial"/>
              </a:rPr>
              <a:t> Лондон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истакнут значај ауторадиографске методе у изучавању репликације,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ни су сателити на акроцентричним хромозомима, детаљно је проуч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хромоз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CS" sz="3600" spc="-1" strike="noStrike">
                <a:solidFill>
                  <a:srgbClr val="ff3399"/>
                </a:solidFill>
                <a:latin typeface="Arial"/>
              </a:rPr>
              <a:t> Чикагу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ромозоми су разв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тани у 7 група</a:t>
            </a:r>
            <a:r>
              <a:rPr b="0" lang="sr-CS" sz="36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, B, C, D, E, F, G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2" name="Picture 3" descr="solidktp"/>
          <p:cNvPicPr/>
          <p:nvPr/>
        </p:nvPicPr>
        <p:blipFill>
          <a:blip r:embed="rId1"/>
          <a:stretch/>
        </p:blipFill>
        <p:spPr>
          <a:xfrm>
            <a:off x="1371600" y="190512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CS" sz="3600" spc="-1" strike="noStrike">
                <a:solidFill>
                  <a:srgbClr val="ff3399"/>
                </a:solidFill>
                <a:latin typeface="Arial"/>
              </a:rPr>
              <a:t> Чикагу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1" lang="sr-RS" sz="3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усвојене формуле за обележавање кариотип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152280" y="2438280"/>
            <a:ext cx="3657600" cy="236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ормалан кариотип ж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6,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ормалан кариотип мушка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6,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4572000" y="2286000"/>
            <a:ext cx="4114800" cy="396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ормуле аберантних кариотипова (примери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Жена са Тарнеровим синдромом     45,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ушкарац са Дауновим синдромом    47,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(+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ушкарац са Клинефелтер синдромом      47,Х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Жена са ринг Х хромозо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6,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CS" sz="3600" spc="-1" strike="noStrike">
                <a:solidFill>
                  <a:srgbClr val="ff3399"/>
                </a:solidFill>
                <a:latin typeface="Arial"/>
              </a:rPr>
              <a:t>Паризу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 уведене су технике трака за бојење хромозома: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G, C, Q  и R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7" name="Picture 9" descr="dobar G band"/>
          <p:cNvPicPr/>
          <p:nvPr/>
        </p:nvPicPr>
        <p:blipFill>
          <a:blip r:embed="rId1"/>
          <a:stretch/>
        </p:blipFill>
        <p:spPr>
          <a:xfrm>
            <a:off x="457200" y="2133720"/>
            <a:ext cx="3581280" cy="37335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1048" name="Picture 10" descr="humani genom C bend"/>
          <p:cNvPicPr/>
          <p:nvPr/>
        </p:nvPicPr>
        <p:blipFill>
          <a:blip r:embed="rId2"/>
          <a:stretch/>
        </p:blipFill>
        <p:spPr>
          <a:xfrm>
            <a:off x="4648320" y="2133720"/>
            <a:ext cx="4012920" cy="369072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sp>
        <p:nvSpPr>
          <p:cNvPr id="1049" name="Rectangle 4"/>
          <p:cNvSpPr/>
          <p:nvPr/>
        </p:nvSpPr>
        <p:spPr>
          <a:xfrm>
            <a:off x="1219320" y="6019920"/>
            <a:ext cx="2057400" cy="380880"/>
          </a:xfrm>
          <a:prstGeom prst="rect">
            <a:avLst/>
          </a:prstGeom>
          <a:solidFill>
            <a:srgbClr val="b5ed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100" spc="-1" strike="noStrike">
                <a:solidFill>
                  <a:srgbClr val="000000"/>
                </a:solidFill>
                <a:latin typeface="Arial"/>
              </a:rPr>
              <a:t>Хромозоми бојени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Arial"/>
              </a:rPr>
              <a:t>техником тра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5"/>
          <p:cNvSpPr/>
          <p:nvPr/>
        </p:nvSpPr>
        <p:spPr>
          <a:xfrm>
            <a:off x="5562720" y="5943600"/>
            <a:ext cx="2057400" cy="380880"/>
          </a:xfrm>
          <a:prstGeom prst="rect">
            <a:avLst/>
          </a:prstGeom>
          <a:solidFill>
            <a:srgbClr val="b5edf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100" spc="-1" strike="noStrike">
                <a:solidFill>
                  <a:srgbClr val="000000"/>
                </a:solidFill>
                <a:latin typeface="Arial"/>
              </a:rPr>
              <a:t>Хромозоми бојени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Arial"/>
              </a:rPr>
              <a:t>технико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умани хромозоми бојени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техником тра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52" name="Picture 2" descr="http://www.spectral-imaging.com/sites/default/files/pictures/products/Qbanding%20(1).JPG"/>
          <p:cNvPicPr/>
          <p:nvPr/>
        </p:nvPicPr>
        <p:blipFill>
          <a:blip r:embed="rId1"/>
          <a:stretch/>
        </p:blipFill>
        <p:spPr>
          <a:xfrm>
            <a:off x="838080" y="1752480"/>
            <a:ext cx="6782040" cy="441972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4"/>
          <p:cNvSpPr/>
          <p:nvPr/>
        </p:nvSpPr>
        <p:spPr>
          <a:xfrm>
            <a:off x="3733920" y="6248520"/>
            <a:ext cx="1600200" cy="457200"/>
          </a:xfrm>
          <a:prstGeom prst="rect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,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умани хромозоми бојени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техником трак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55" name="Picture 2" descr="http://www.nature.com/bmt/journal/v33/n2/images/1704308f1.jpg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07664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4"/>
          <p:cNvSpPr/>
          <p:nvPr/>
        </p:nvSpPr>
        <p:spPr>
          <a:xfrm>
            <a:off x="3809880" y="6095880"/>
            <a:ext cx="1371600" cy="457200"/>
          </a:xfrm>
          <a:prstGeom prst="rect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7, Х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Title 1" descr=""/>
          <p:cNvPicPr/>
          <p:nvPr/>
        </p:nvPicPr>
        <p:blipFill>
          <a:blip r:embed="rId1"/>
          <a:stretch/>
        </p:blipFill>
        <p:spPr>
          <a:xfrm>
            <a:off x="639720" y="2286000"/>
            <a:ext cx="7821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Ређање кариограм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5192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Constantia"/>
              </a:rPr>
              <a:t>http://learn.genetics.utah.edu/content/basics/karyotype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0066"/>
                </a:solidFill>
                <a:latin typeface="Arial"/>
              </a:rPr>
              <a:t>ХРОМОЗОМИ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286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лазе се у једру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ћел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ли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читог су изгледа у зависности од фазе ћелијског циклу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интерфазном једру-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хроматинска м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 од почетка ћел. деобе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хроматин се кондензује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и организује у </a:t>
            </a:r>
            <a:r>
              <a:rPr b="1" lang="sr-Latn-CS" sz="2600" spc="-1" strike="noStrike">
                <a:solidFill>
                  <a:srgbClr val="6600ff"/>
                </a:solidFill>
                <a:latin typeface="Arial"/>
              </a:rPr>
              <a:t>хромоз</a:t>
            </a:r>
            <a:r>
              <a:rPr b="1" lang="sr-RS" sz="2600" spc="-1" strike="noStrike">
                <a:solidFill>
                  <a:srgbClr val="6600ff"/>
                </a:solidFill>
                <a:latin typeface="Arial"/>
              </a:rPr>
              <a:t>о</a:t>
            </a:r>
            <a:r>
              <a:rPr b="1" lang="sr-Latn-CS" sz="2600" spc="-1" strike="noStrike">
                <a:solidFill>
                  <a:srgbClr val="6600ff"/>
                </a:solidFill>
                <a:latin typeface="Arial"/>
              </a:rPr>
              <a:t>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1219320" y="4044960"/>
            <a:ext cx="3429000" cy="1485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6" descr=""/>
          <p:cNvPicPr/>
          <p:nvPr/>
        </p:nvPicPr>
        <p:blipFill>
          <a:blip r:embed="rId2"/>
          <a:stretch/>
        </p:blipFill>
        <p:spPr>
          <a:xfrm>
            <a:off x="5105520" y="4044960"/>
            <a:ext cx="2133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Хомологи хромозо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телесним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лијам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човека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6 хромозом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sr-Latn-CS" sz="2600" spc="-1" strike="noStrike">
                <a:solidFill>
                  <a:srgbClr val="ff0000"/>
                </a:solidFill>
                <a:latin typeface="Arial"/>
              </a:rPr>
              <a:t>23 пара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ff0000"/>
                </a:solidFill>
                <a:latin typeface="Arial"/>
              </a:rPr>
              <a:t>(2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-</a:t>
            </a:r>
            <a:r>
              <a:rPr b="0" lang="sr-RS" sz="2600" spc="-1" strike="noStrike">
                <a:solidFill>
                  <a:srgbClr val="ff0000"/>
                </a:solidFill>
                <a:latin typeface="Arial"/>
              </a:rPr>
              <a:t>диплоидан број хромозома)</a:t>
            </a:r>
            <a:r>
              <a:rPr b="0" lang="sr-Latn-CS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2 пара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аутозомни хромозоми и 1 пар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олни хромозо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енски пол- XX полни хромозо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Мушки пол- XY полни хромозо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" descr=""/>
          <p:cNvPicPr/>
          <p:nvPr/>
        </p:nvPicPr>
        <p:blipFill>
          <a:blip r:embed="rId1"/>
          <a:stretch/>
        </p:blipFill>
        <p:spPr>
          <a:xfrm>
            <a:off x="4452840" y="299880"/>
            <a:ext cx="3276720" cy="2124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2" descr=""/>
          <p:cNvPicPr/>
          <p:nvPr/>
        </p:nvPicPr>
        <p:blipFill>
          <a:blip r:embed="rId2"/>
          <a:srcRect l="0" t="24235" r="4567" b="6799"/>
          <a:stretch/>
        </p:blipFill>
        <p:spPr>
          <a:xfrm>
            <a:off x="6249960" y="4572000"/>
            <a:ext cx="2354400" cy="1274760"/>
          </a:xfrm>
          <a:prstGeom prst="rect">
            <a:avLst/>
          </a:prstGeom>
          <a:ln w="0">
            <a:noFill/>
          </a:ln>
        </p:spPr>
      </p:pic>
      <p:sp>
        <p:nvSpPr>
          <p:cNvPr id="950" name="Rectangle 1"/>
          <p:cNvSpPr/>
          <p:nvPr/>
        </p:nvSpPr>
        <p:spPr>
          <a:xfrm>
            <a:off x="6477120" y="5888160"/>
            <a:ext cx="798480" cy="325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7729560" y="5870520"/>
            <a:ext cx="798480" cy="325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ХЕМИЈСКИ САСТАВ ХРОМОЗОМА ЕУКАРИ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роматин-хромозоми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99"/>
                </a:solidFill>
                <a:latin typeface="Arial"/>
              </a:rPr>
              <a:t>ДНК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1" lang="sr-CS" sz="2800" spc="-1" strike="noStrike">
                <a:solidFill>
                  <a:srgbClr val="ff3399"/>
                </a:solidFill>
                <a:latin typeface="Arial"/>
              </a:rPr>
              <a:t>ПРОТЕИН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1" lang="sr-Latn-C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РНК =</a:t>
            </a:r>
            <a:r>
              <a:rPr b="1" lang="sr-CS" sz="2800" spc="-1" strike="noStrike">
                <a:solidFill>
                  <a:srgbClr val="ff3399"/>
                </a:solidFill>
                <a:latin typeface="Arial"/>
              </a:rPr>
              <a:t> ХРОМАТ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Две класе ПРОТЕИНА улазе у грађу хромозо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99"/>
                </a:solidFill>
                <a:latin typeface="Arial"/>
              </a:rPr>
              <a:t>хистонск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99"/>
                </a:solidFill>
                <a:latin typeface="Arial"/>
              </a:rPr>
              <a:t>нехистонски,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кисели или резидуални проте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648320" y="914400"/>
            <a:ext cx="406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сону 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(1953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з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Picture 5" descr="DNA"/>
          <p:cNvPicPr/>
          <p:nvPr/>
        </p:nvPicPr>
        <p:blipFill>
          <a:blip r:embed="rId1"/>
          <a:stretch/>
        </p:blipFill>
        <p:spPr>
          <a:xfrm>
            <a:off x="3808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Olivera Milošević-Đorđević</cp:lastModifiedBy>
  <dcterms:modified xsi:type="dcterms:W3CDTF">2021-01-25T09:53:52Z</dcterms:modified>
  <cp:revision>168</cp:revision>
  <dc:subject/>
  <dc:title>2-Humani genom</dc:title>
</cp:coreProperties>
</file>